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A35C-2274-42F4-938B-4D48F60D4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408EB-F650-437B-8178-6AFF54119A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780982-3E45-4D06-A065-9AD0A3B5D9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951347-0100-4CBF-9435-23CD66094A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7E1D42-19FD-45E4-A543-0A276D5EBD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215505D9-5209-45AB-B39A-09BE2749F1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25B54-82E6-4304-BE3A-0C7B43E97F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492F9A-3396-4030-9153-10BC3DA7C7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ADB3D52B-EB49-41EB-9BFA-BEF2E3C878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95831007-98B9-44F4-9B84-91D0018CEE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491DEC-8B3D-4965-8F0E-3673891733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1937D4-8534-44AB-804F-02ECEAF43E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A1B0AF-945B-42F5-81D7-757904D71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0057-8B9C-4460-B146-6D0BB8966EA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lg"/>
            <a:tailEnd len="med" type="triangle" w="lg"/>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lg"/>
            <a:tailEnd len="med" type="triangle" w="lg"/>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lg"/>
            <a:tailEnd len="med" type="triangle" w="lg"/>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lg"/>
            <a:tailEnd len="med" type="triangle" w="lg"/>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lg"/>
            <a:tailEnd len="med" type="triangle" w="lg"/>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lg"/>
            <a:tailEnd len="med" type="triangle" w="lg"/>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lg"/>
            <a:tailEnd len="med" type="triangle" w="lg"/>
          </a:ln>
        </p:spPr>
      </p:cxnSp>
      <p:sp>
        <p:nvSpPr>
          <p:cNvPr id="466" name=""/>
          <p:cNvSpPr/>
          <p:nvPr/>
        </p:nvSpPr>
        <p:spPr>
          <a:xfrm>
            <a:off x="1512720" y="2838600"/>
            <a:ext cx="1152720" cy="0"/>
          </a:xfrm>
          <a:prstGeom prst="line">
            <a:avLst/>
          </a:prstGeom>
          <a:ln w="28440">
            <a:solidFill>
              <a:srgbClr val="cccc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