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png" ContentType="image/png"/>
  <Override PartName="/ppt/media/image10.wmf" ContentType="image/x-wmf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FDA29-2062-4682-BCDE-D232D4F715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01F92-CA69-4D43-9FD9-28A6AEA54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59E46-AF44-4B21-9D7D-E4D505222A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AA895-557C-4D20-A59D-B87E5E449E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D49C4-E8B5-4D12-813B-248F61A3D7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F5CEF-2B22-4C65-A84D-6A865CAB70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C99A2-CC84-45BD-983E-20B0932C4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E3E6E-C6B4-4617-BECB-34D6764920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B398F-9A1F-4A3A-857A-1E50BFA07B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C37FC-6AC7-40C0-BA80-D6751013AE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5EAB9-9DD2-49D9-BF49-42373FE1AC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0FD7C-1E25-49D0-8BF2-8654EB83FF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CC7A-ACA6-4F45-A1EC-F9CB3DCECE70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Integration Competency Cen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DI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2240" y="1892160"/>
            <a:ext cx="55879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s from the Flight Deck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huck Fer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644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jo Communic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46640" y="2419200"/>
            <a:ext cx="1009800" cy="1285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46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Ollie Ollie 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4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nte Pythons Flying Transac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-Data Movers and Shak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Global Data Exchan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Data Exchange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76440" y="1379520"/>
            <a:ext cx="59580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3597120" cy="36687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840200" y="1579680"/>
            <a:ext cx="3598920" cy="32526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75160" y="4862520"/>
            <a:ext cx="309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Compres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 with tra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62880" y="4862520"/>
            <a:ext cx="3333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anded data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Less 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at to keep an eye 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1276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Security/Encry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49680" y="3121200"/>
            <a:ext cx="261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Question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Burlington Northern Santa Fe Railway Company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es one of the largest railroad networks in Nor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,000 Route M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ing 28 States and two Canadian Provi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covers the western two thirds of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s more Intermodal equipment then any other Railroad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's largest grain-hauling railro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uls enough coal to generate more than 10 percent of the electricity produced in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s approximately 38,000 peop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approximately a million transactions every d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WebServic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32280" y="112392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4460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2560" y="256392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7720" y="257796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7532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52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3" name=""/>
          <p:cNvCxnSpPr>
            <a:stCxn id="148" idx="3"/>
            <a:endCxn id="150" idx="1"/>
          </p:cNvCxnSpPr>
          <p:nvPr/>
        </p:nvCxnSpPr>
        <p:spPr>
          <a:xfrm>
            <a:off x="4132440" y="291888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4" name=""/>
          <p:cNvCxnSpPr>
            <a:stCxn id="150" idx="3"/>
            <a:endCxn id="149" idx="1"/>
          </p:cNvCxnSpPr>
          <p:nvPr/>
        </p:nvCxnSpPr>
        <p:spPr>
          <a:xfrm>
            <a:off x="5784840" y="2918880"/>
            <a:ext cx="519840" cy="900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5" name=""/>
          <p:cNvCxnSpPr>
            <a:stCxn id="146" idx="3"/>
            <a:endCxn id="148" idx="0"/>
          </p:cNvCxnSpPr>
          <p:nvPr/>
        </p:nvCxnSpPr>
        <p:spPr>
          <a:xfrm flipH="1">
            <a:off x="3564720" y="1856880"/>
            <a:ext cx="10440" cy="685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56" name=""/>
          <p:cNvSpPr/>
          <p:nvPr/>
        </p:nvSpPr>
        <p:spPr>
          <a:xfrm>
            <a:off x="3032280" y="369720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4460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22560" y="513720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6588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7532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2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3" name=""/>
          <p:cNvCxnSpPr>
            <a:stCxn id="158" idx="3"/>
            <a:endCxn id="160" idx="1"/>
          </p:cNvCxnSpPr>
          <p:nvPr/>
        </p:nvCxnSpPr>
        <p:spPr>
          <a:xfrm>
            <a:off x="4132440" y="549252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4" name=""/>
          <p:cNvCxnSpPr>
            <a:stCxn id="160" idx="3"/>
            <a:endCxn id="159" idx="1"/>
          </p:cNvCxnSpPr>
          <p:nvPr/>
        </p:nvCxnSpPr>
        <p:spPr>
          <a:xfrm>
            <a:off x="5780160" y="5492520"/>
            <a:ext cx="56736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5" name=""/>
          <p:cNvCxnSpPr>
            <a:stCxn id="156" idx="3"/>
            <a:endCxn id="158" idx="0"/>
          </p:cNvCxnSpPr>
          <p:nvPr/>
        </p:nvCxnSpPr>
        <p:spPr>
          <a:xfrm flipH="1">
            <a:off x="3564720" y="4430880"/>
            <a:ext cx="10440" cy="68472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66" name=""/>
          <p:cNvSpPr/>
          <p:nvPr/>
        </p:nvSpPr>
        <p:spPr>
          <a:xfrm>
            <a:off x="6365880" y="3505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65880" y="4351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6" idx="1"/>
            <a:endCxn id="160" idx="3"/>
          </p:cNvCxnSpPr>
          <p:nvPr/>
        </p:nvCxnSpPr>
        <p:spPr>
          <a:xfrm flipH="1">
            <a:off x="5779800" y="3854160"/>
            <a:ext cx="567360" cy="1639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9" name=""/>
          <p:cNvCxnSpPr>
            <a:stCxn id="167" idx="1"/>
            <a:endCxn id="160" idx="3"/>
          </p:cNvCxnSpPr>
          <p:nvPr/>
        </p:nvCxnSpPr>
        <p:spPr>
          <a:xfrm flipH="1">
            <a:off x="5779800" y="4700160"/>
            <a:ext cx="567360" cy="793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70" name=""/>
          <p:cNvSpPr/>
          <p:nvPr/>
        </p:nvSpPr>
        <p:spPr>
          <a:xfrm>
            <a:off x="7410240" y="3584520"/>
            <a:ext cx="1806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Tim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Maintain Conne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XML form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6320" y="120168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Tradit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8400" y="378936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Web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112920" y="1584360"/>
            <a:ext cx="190044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112920" y="1932120"/>
            <a:ext cx="4224600" cy="1473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112920" y="2282760"/>
            <a:ext cx="2187720" cy="112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112920" y="2552760"/>
            <a:ext cx="3090960" cy="85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112920" y="2822040"/>
            <a:ext cx="4224600" cy="5828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12920" y="3405240"/>
            <a:ext cx="2187720" cy="1000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12920" y="3405240"/>
            <a:ext cx="2803680" cy="906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341960" y="2822040"/>
            <a:ext cx="2995560" cy="2124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1880" y="3502080"/>
          <a:ext cx="8450280" cy="23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502080"/>
                    <a:ext cx="8450280" cy="23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61880" y="1044720"/>
          <a:ext cx="8104320" cy="24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880" y="1044720"/>
                    <a:ext cx="81043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511920" y="32338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Van F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2280" y="86040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haracter 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6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22360" y="2430360"/>
            <a:ext cx="734868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/MIM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G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F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ware Solu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l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EDI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C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TRAIN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Fla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8520" y="54936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Data 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538280" y="1325520"/>
            <a:ext cx="64515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26T15:51:16Z</dcterms:modified>
  <cp:revision>881</cp:revision>
  <dc:subject/>
  <dc:title>IBM Software Group</dc:title>
</cp:coreProperties>
</file>