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63509-3E79-4F29-A72B-4A610C08FB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1327E-EF59-45BE-BD09-F58859D9A8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7FE97-67B7-47BA-8970-E72AC636F9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59384-5000-4B1C-BC37-90BD0FB885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9033B-C292-460D-89B4-7FF7AE4140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CF654-079C-481C-85DB-BE9F49B713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7057F-5AE2-43AC-98D9-2B76471A75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47F3D-660F-4898-93EF-0E8ADEFC63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9044A-3655-4B5C-875A-9FAEDCC214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2FDE5-3BF0-4F41-AD83-C4DB7AA9BC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6089D-4E0A-419A-A6C7-F900216393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67965-88F9-426E-A245-9A432A8DE0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B3616-0ACD-49A5-A4E1-9320E0786863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2240" y="2084400"/>
            <a:ext cx="52956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 </a:t>
            </a:r>
            <a:br>
              <a:rPr sz="24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aring Into the Future</a:t>
            </a:r>
            <a:br>
              <a:rPr sz="1800"/>
            </a:br>
            <a:br>
              <a:rPr sz="18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verview/Reasons to move to 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Ability to run translation on your own PC - makes testing SO much easier!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place W2K server on laptop or deskto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ing a breez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y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moving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DT mapping offers more functions than traditional send/receive mapping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2760" y="1776240"/>
            <a:ext cx="1852560" cy="39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C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Prope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xEn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xDe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65560" y="1770120"/>
            <a:ext cx="2514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Emp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Form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curre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l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Com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14840" y="1668600"/>
            <a:ext cx="243864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Comp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Comp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CompN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r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mLef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mRig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nc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id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Choice of target or source based mapping 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 or Target based mapping allows you to achieve the desired resul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an be hard to determine at ti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not concert maps from Target to Source or Source to Targ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Support ends for v3.1 Dec, 2004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for DI 3.1 was announced to complete on Dec.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True Data Format to Data Format Mapping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s DF to DF 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iously required a DF to be converted to a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irect EDI Standard to EDI Standard Transform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for EDI to EDI Ma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iously required double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XML DTD mapping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XML 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s DTD definition of the 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iously required double transa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Ability to Insert Commands Between Segments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ing commands between segments or elements to get force an operation or assignment based on a specific location of processing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will be executed if the segment is there or no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 level Segments or Loops must be available to process the comma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Ability to Comment Maps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add comments to mapping comma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add comment groups to ma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add comments to the map over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Expanded Conditional processing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 functions available for conditional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Comp, StrCompI, StrCompN, StrCompNI, Find, F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uble Qoutes used to compare character strigs – “string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ngle Qoutes used to compare numeric fields – ‘123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Command Chaining using MQSeries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12400" y="1273320"/>
            <a:ext cx="7348680" cy="48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 Chaining using MQSeries allows processing to continue after each step if desi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d by any file being written to, if there is a Service Profile with that same name, it will be execu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not have to use the file that triggers it as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start a totally  different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Simplified HL mapping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ified HL mapping sup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P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Chil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ally the remaining fields based on how you identified the parent/child relationshi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Complex Qualification Mapping Support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fied mapping can be done by Occurrence, Value, or Expr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ations of these can also be used to achieve the desired resul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asy to Use Mapping Command Editor 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st in creating mapping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– click menus allow all mapping commands and functions to be sel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ping commands and function formats are giv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meters can be double clicked so that dragging and dropping of commands can be completed easily and acurat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n be easily combined to get the desired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edictable mapping command execu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63160" y="182700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ping commands are executed in the order that they are listed in the mapping commands wind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selecting Source or Target based mapping, you control the output resul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using the Insert Within, Insert After, Insert Before and dragging and droping your commands in different order, you can achieve desired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RFH2 Header Access from the Mapper</a:t>
            </a: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Property  to retreive the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Property to se the Target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Integration capability with WMQI using the MCD profile</a:t>
            </a: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D profiles available to load MQ hea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profiles and processing handled from the cli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Integration with TPI / Cyclone using EDICYCL Network program</a:t>
            </a: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integration to Cyclone Interchange to drop data on a queue and pass it in to C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Common database for server and client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Database for Server and Client allows ease of 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e of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wer systems areas involved in the installation and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Any to Any mapping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Transformation M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nd improved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click use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commands and functions available at a cli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Validation Mapping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the customer to create validation maps to confirm a set of business logic in a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create 997’s as appropriate if des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set validation level errors a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Better Traces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12400" y="941040"/>
            <a:ext cx="7348680" cy="51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plifies mapping problem definin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l = the tracing leve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trace messages are ignor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c = component to be trace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enveloper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veloper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ssage bro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s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les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formation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idation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rmal tracing. Only the first 256 byes of data in the buffer are written to the trace 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nded tracing. The entire contents of the buffer is written to the trace 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dhillary</cp:lastModifiedBy>
  <dcterms:modified xsi:type="dcterms:W3CDTF">2003-09-26T15:44:35Z</dcterms:modified>
  <cp:revision>860</cp:revision>
  <dc:subject/>
  <dc:title>IBM Software Group</dc:title>
</cp:coreProperties>
</file>