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D4215-774C-49D9-B749-2527912275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72A54-31A9-4159-B6AD-382C569B5B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CFAD1-E613-472A-8665-DE99287FED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28637-5773-4138-A995-954A2F1328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F5E13-AC3B-461D-AB63-4453324023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B59FB-7BB2-4FC6-A6FC-64FE564BC4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344F2-BBEA-46BA-8F42-7FAE7AEA32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DCDD4-40BB-4125-B42C-EFFC5CBC90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179BB-3286-4571-8982-288560BEF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E815E-AEFD-4799-9B0C-B29420E689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9E438-5624-4A5A-9A33-8E5F98913A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9C255-54D3-45B8-BA35-6F6F1D3BA6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27B7-B226-4E62-BFC2-35A659A078C5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5896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Life - Tips and Tricks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58120" y="3009960"/>
            <a:ext cx="10094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WHERE cl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ny WHERE clauses can be attached to on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can be used only once in a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WHERE clauses can be used to process multiple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must be preceded by values within parenthe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spaces can exist between the keyword and the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PNICKN(ABF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NG cla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ike the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an only be included once in th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ENVELOPE DATA EX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NG INTERCHANGE(Y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TCTLNO(000456789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statement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comments to the PERFORM statement synt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Company ABC translation  &lt;&lt;&lt;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 Company ABC translation  &lt;&lt;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Generic command for executing commands in a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vokes the command chaining fe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OCESS and RECEIVE AND PROCESS are the only commands that invoke command chai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PRO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FILEID(APDATA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RRFILTER vari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lter and eliminate warn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GNORE to report all errors regardless of instructions in the 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1-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IGNORE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391760"/>
            <a:ext cx="73486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late data in any format to any other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 data transformation maps to translate the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FILE(APDATA01) INTYPE(M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AX(X) OUTFILE(APOU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SYNTAX is only used with the TRANSFORM command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 - Application data, E -  EDI data, X - XM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YPE is only used with the TRANSFORM command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Q - MQSeries que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software updates that need to be made in preparation for migrat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for zOS runs on zOS version 1 or later with Transaction Server (CICS) for OS/390 version 1.3 or later, or Transaction Server for zOS version 2.2, DB2 for MVS or OS/390 version 7, MQSeries version 5.3 and XML Toolkit version 1.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objects get migrated go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ll meta data objects (standards, data formats, and maps) get converted and migrated.  Profiles get migrated as do control strings.  Operational data does not get migra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will my Host maps look lik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Host maps will show up in the Send and Receive tabs of WDI Client V3.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ow is migration accomplish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Migration is a set of steps in the installation procedure.  The migration is accomplished via WDI Export and Import facilities.  A conversion flag is used to convert “host” format objects to the common database structure of WDI V3.2.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test the migrated objec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, test the translator because the control string was migrated as is from the host platform.  A recompilation of the map should yield a different control string - but provide the same resu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new features will be availabl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V3.2 offers any-to-any mapping and more visible ways of viewing and maintaining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s VSAM support i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VSAM is not supported.  The import process moves the data to DB2 tables in WDI V3.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happens if I do not migrate my ma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ou do not want to execute Send/Receive maps in WDI V3.2, and that you want to rewrite your maps using the new any-to-any mapper.  A recommended approach is that you consider migration and then rewrite the maps at your conveni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run XML translation in CICS o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DTC maps run in CIC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Send/Receive XML maps run in C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In WDI V3.2 the XML preprocessor is supported in CICS.  Also data transformation maps can be used to translate XML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JCL changes for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The any-to-any translator uses the TRANSFORM verb of the PERFORM command.  The XMLDICT and XMLDTDS keywords point to partitioned datasets (PDS) of XML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changes to the DI translator API between DI V3.1 and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    Answer: No. The interface to EDIFFUT and EDIFFUS is the s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change any of the PERFORM comman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No. There are some additional options to existing commands and there is a new TRANSFORM command you may want to consid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inter operate migrated WDI V3.2, WDI V3.2 zOS, with  a WDI V3.2 AIX/Windows or can I develop on AIX and deploy on zOS, export from one to the ot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bsolutely. In addition, a single WDI Client allows a window into all systems.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of Command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File Definition (INPUTQ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File Definition (PRT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 data 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Language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from DI V3.1 to WDI V3.2 - Questions and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Design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298160"/>
            <a:ext cx="734868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in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PUTQ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out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TFILE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ommand chain that will connect the input and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ERFORM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st use PERFORM process to initiate command chaining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MQ queue (INPUTQ) with triggering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INPUTQ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INPUTQ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AND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FILE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FMTID(ADF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TEST(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Common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f needed, define path to other files (Tracking, Exception, Work File, Report File, Query Fil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EXC\EXCEPT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WRK\WORK.tx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flat file (PRTFILE) under “Network Profiles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RTFILE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PRTFILE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CLASST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ID(PRTFI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Input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Chain Data Flow Diagram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090440" y="944640"/>
          <a:ext cx="6747120" cy="49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944640"/>
                    <a:ext cx="674712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PERFORM stat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is handled and process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syntax is handl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ubsequent PERFORM statement will not be process, if a non-zero condition occurred in the prior PERFORM state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9-09T17:35:21Z</cp:lastPrinted>
  <dcterms:modified xsi:type="dcterms:W3CDTF">2003-09-17T17:52:03Z</dcterms:modified>
  <cp:revision>912</cp:revision>
  <dc:subject/>
  <dc:title>IBM Software Group</dc:title>
</cp:coreProperties>
</file>