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F6177B0-29D5-46A7-9D12-F037A8C96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2660C40-65FB-4F72-899D-F95C42BBF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EE6A58-6677-4BFD-A7AC-F419CA4E23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09CC57-B840-45E3-BE10-0858E74921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5FFBAE-41CD-446C-BBE7-70C791B853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767447-0AB4-4BEF-A5D2-DDA9A12978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4C40B21D-379D-46B2-A2BB-B0DD68915B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79D4A-4EAC-40C8-B208-52CE388C432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1DFC2D-EA64-41E3-911B-9DE9B4204DE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EAA4B60A-5946-41B4-BA6D-BBA4ECE5BD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BD4E0936-A8A5-4CF6-A044-D2EB24382D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1A28A9-C504-4DBA-849E-5066FBF178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2645F2-613B-4FC2-9BB3-4E20E1DBEE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4994D9-62AF-4AEE-9986-F56B588321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ED04-958E-4776-AC5F-E64EA320E928}"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triangle"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triangle"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triangle"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triangle"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triangle"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triangle"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triangle"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triangle"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triangle"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triangle"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triangle"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triangle"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triangle"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triangle"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triangle"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triangle"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triangle"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triangle"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triangle"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triangle"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triangle"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triangle"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triangle"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triangle"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triangle"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triangle"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triangle"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triangle"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triangle"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triangle"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triangle"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triangle"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triangle"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triangle"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